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044C-6418-4C8B-A9F7-E15CA3027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110D-2102-4729-8F8D-C19521BBA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52BF-6658-4C0A-9098-88768F169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032E-BC2C-4E63-A47B-229D779D3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4A09-0B82-4C26-92DE-30DA1BC26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0857-8998-4C7E-AFE1-A09DA5420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F0F2-2E63-409E-B797-7BEB02D5F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A0A7-C52D-49B7-8556-AF46F39B4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69E8-49DB-42E4-9C98-2124F58A0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4A2B-FD05-4254-A735-A8D40A90E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27C9-798C-4F0B-9B0C-C5B8B6726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F434-6221-4851-894F-19FFF4DED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43F3-8A4B-483B-8279-B0B2FE698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EF6D-E223-42E3-BD02-05C71EDF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0061-5FDF-41B9-926D-53E06372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A3A5-1E40-4163-914C-CB63633A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2D6E-42C3-481B-935A-EF49422A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DDFF-2BFB-4375-9018-A762A881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51D9-3BD8-4556-8E10-02BB91E9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B058-F43D-4D39-890E-15F01D37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284C-8AD6-4878-AAEF-049423D8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EB96-08F3-471E-8792-294DEC34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7D77-CA12-4074-9DFC-0B03B1BF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35DC-06B5-43C1-8DE6-5FE0D9F4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91E3-8BBD-4083-9356-42B1D877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8396-B45E-4FEF-8C99-319E188C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6679-15F4-421B-BBEB-32C456AC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6488-F6AE-4E71-8779-F64F5390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AECC-5B3F-4BF5-A473-4DA03712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E444-8A4E-4EF1-8034-9E0A2C93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EA10B9-786A-4900-9E2C-26CFA0FF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2F55F-E534-4544-A1C3-C1ED2967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78BBD8-65E0-47B4-BEA2-AD7AE0B4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EAA7F-5E45-40F2-B050-4278C465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1A313B-57FE-41C2-9046-F2AD86C7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8889-7F63-4226-AA69-90C225DE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51E13E-B1A4-41D3-ACAA-EBA730F0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E6DB93-E89A-4689-B1B1-4519E24E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AA504-4C13-449B-BF00-3F1898D0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B9BDCC-B537-4B25-B28E-944D89EF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1DA162-91A3-4E57-8BC9-6CAF190E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F6BF1F-825E-489A-BEAC-AB865186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28ED5A-83A3-41E6-9806-4E93E2A9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5C7CD-C2CE-4803-9E35-5EEBD8C5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D6E88-11F9-44EF-8929-B92904A0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5F053-10DE-4C1A-B9D4-C69D95E6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CE4A-6EDB-4DF3-A17C-16B76E92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42487-645E-42A6-B17F-6F8B4091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5A003-B6FF-495B-A822-9AD58608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BFE9F-24D8-422F-902B-6D032190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AD29D-C9C9-4019-95F7-B25378C0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DDB6B-10CA-4329-B1FA-472B74FB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578D1-9EE1-43AD-A7E6-F65037D7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5326A-EBA7-461D-BD5D-AA43E64B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D5A5D-AE10-4137-B945-BCEC56E0D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AE147-09F6-4792-8990-0FD1AD3E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0614-A059-4C59-9F2C-A7F676D1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6288-A5FB-40DB-B2A4-927416C5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3A2D-35D7-46AD-BCD6-E88BFE70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4F97-811C-4011-BF01-83F5525D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FDD4-97C6-4381-81AC-C63CD4D7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ABA9-8715-490B-90C3-98167ACCAF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9D86-98C2-4652-9AD5-66CEE8D617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B784-51D2-4188-BC59-6FE13201CD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1914-A01F-4B3B-B532-9A07D2AAC3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hapter 8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Entertaining Products &amp; Marketing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pecial Entertainment Even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sney on Ice, Stars on Ice, &amp; Sesame Street Show are example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ually move from place to plac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istribution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Primary Marke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in film distribution is the target audience which is the theaters that show films in first relea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Secondary Marke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is the target audience after the film has been in first run at theaters, and it includes foreign theaters, television, discount theaters, home rental and sales, cable tv, and airli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arketing Fil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ailers – previews of upcoming movies shown before the main featur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0" name="Picture 5" descr="http://www.mclol.com/wp-content/uploads/2010/05/film-trailer.jpg"/>
          <p:cNvPicPr/>
          <p:nvPr/>
        </p:nvPicPr>
        <p:blipFill>
          <a:blip r:embed="rId1"/>
          <a:stretch/>
        </p:blipFill>
        <p:spPr>
          <a:xfrm>
            <a:off x="1752480" y="3505320"/>
            <a:ext cx="57056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ntertaining Produc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0570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n be both tangible goods and intangible servic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at are some example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ncess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nack bars that sell refreshments such as popcorn, soda, and cand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7" name="Picture 5" descr="https://d1ij7zv8zivhs3.cloudfront.net/assets/2566945/lightbox/concession%20stand%20VENDOR.jpg?1290700425"/>
          <p:cNvPicPr/>
          <p:nvPr/>
        </p:nvPicPr>
        <p:blipFill>
          <a:blip r:embed="rId1"/>
          <a:stretch/>
        </p:blipFill>
        <p:spPr>
          <a:xfrm>
            <a:off x="2895480" y="3581280"/>
            <a:ext cx="32004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o rent or buy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bout 40% of revenue of DVDs and videos comes from the sale of DVDs, not renting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vergreen – films or products that are popular year after yea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at are some examples of Evergreens?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5" descr="http://www.yourlogoresources.com/wp-content/uploads/2011/11/DVD-Video-Logo.jpg"/>
          <p:cNvPicPr/>
          <p:nvPr/>
        </p:nvPicPr>
        <p:blipFill>
          <a:blip r:embed="rId1"/>
          <a:stretch/>
        </p:blipFill>
        <p:spPr>
          <a:xfrm>
            <a:off x="2666880" y="4876920"/>
            <a:ext cx="261144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usic CDs &amp; Distribu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orldwide sales of recorded music total about $40 billion a yea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cord Clubs – are organizations in which members receive free records if they agree to purchase additional records within a certain time perio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ack Jobbers – are independent vendors who distribute, price, and control their own inventory within a stor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lectronic and Video Gam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deo and electronic games as media-based entertainment products are a $10 billion a year busines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ave become a rival of music C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bout 40% of space is devoted to video-game renta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oss-marketing video games is very comm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Books &amp; Magazin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int media – books, magazines, comics, newspapers – is one of the oldest sources of entertainment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Picture 5" descr="http://www.hcpl.net/sites/default/files/magazine_2.jpg"/>
          <p:cNvPicPr/>
          <p:nvPr/>
        </p:nvPicPr>
        <p:blipFill>
          <a:blip r:embed="rId1"/>
          <a:stretch/>
        </p:blipFill>
        <p:spPr>
          <a:xfrm>
            <a:off x="1752480" y="4016520"/>
            <a:ext cx="461016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heme Parks &amp; Water Park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cations-based entertainment – is entertainment that includes amusement, theme, animal, and water park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pulse Spending – buying without prior planning. Examples: food, souvenirs, and apparel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dutainment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creation based entertainment that is also education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useums, Zoos, &amp; Theate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5" descr="http://upload.wikimedia.org/wikipedia/commons/thumb/2/2e/San_Diego_Zoo_entrance_elephant.jpg/280px-San_Diego_Zoo_entrance_elephant.jpg"/>
          <p:cNvPicPr/>
          <p:nvPr/>
        </p:nvPicPr>
        <p:blipFill>
          <a:blip r:embed="rId1"/>
          <a:stretch/>
        </p:blipFill>
        <p:spPr>
          <a:xfrm>
            <a:off x="990720" y="4419720"/>
            <a:ext cx="2666880" cy="1523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http://upload.wikimedia.org/wikipedia/commons/3/3a/British_Museum_from_NE_2.JPG"/>
          <p:cNvPicPr/>
          <p:nvPr/>
        </p:nvPicPr>
        <p:blipFill>
          <a:blip r:embed="rId2"/>
          <a:stretch/>
        </p:blipFill>
        <p:spPr>
          <a:xfrm>
            <a:off x="4267080" y="4033800"/>
            <a:ext cx="306072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13:23:22Z</dcterms:created>
  <dc:creator>008736</dc:creator>
  <dc:description/>
  <dc:language>en-US</dc:language>
  <cp:lastModifiedBy>Windows User</cp:lastModifiedBy>
  <dcterms:modified xsi:type="dcterms:W3CDTF">2013-01-07T14:03:50Z</dcterms:modified>
  <cp:revision>6</cp:revision>
  <dc:subject/>
  <dc:title>Chapter 8 </dc:title>
</cp:coreProperties>
</file>